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jkwy-2010-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562608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1" lang="en-US" sz="12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6457680"/>
            <a:ext cx="4300560" cy="33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5626080" y="6457680"/>
            <a:ext cx="4300560" cy="33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1" lang="en-US" sz="12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66220F0-2F85-42DC-A0D8-10F12D56197B}" type="slidenum"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626080" y="6458040"/>
            <a:ext cx="43005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FBD06B3-EB8D-493E-96A0-7AD14D502AB5}" type="slidenum"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页眉占位符 1"/>
          <p:cNvSpPr/>
          <p:nvPr/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jkwy-2010-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5626080" y="6458040"/>
            <a:ext cx="43005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CC42768-53FD-4E74-A275-F0CDD1976CA5}" type="slidenum"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页眉占位符 1"/>
          <p:cNvSpPr/>
          <p:nvPr/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jkwy-2010-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80E00-21D6-4B89-A395-FAC2DCA718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AECC9-E0D3-424F-A211-F91724BC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A3347-0050-4F7D-9040-BD570AE9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C6B50-EE53-4D6E-9898-E208043233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9EC-FBA8-4EE0-AC7B-8D887B9DCB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C9ED-06BF-4FEC-AE63-6361378704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F26-21F5-46A8-A99C-3D92EFB363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5F1-5D15-4B57-9A1A-CC053D1D81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AC76-1EED-491A-A298-A871F698E0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A79-111F-4991-823B-EDBBF7B70E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FD1A-C351-44E8-9D69-819144B927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DC44B-D514-4FF8-891D-220CAFF0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0E7-DE3E-48DF-8285-BC5A3EB98C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24B-E6B1-44D2-BB59-AA7DEE37EA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4C6E-D2EB-42A7-AE0C-DCFC072125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6548-381E-4B21-BDCF-0E64C7A87A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B67-78AA-4E6F-BA68-57EE5B494D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022B4-4377-4B6F-BC17-A0D70E3A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B7F14-10FE-448A-84AD-52E51171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F0399-FFF4-47A3-A9A9-F8C4C043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77AC9-13A5-492C-93C3-6EB7FE37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506F-8291-448A-B336-B6883B8B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92339-8FB7-4956-9909-F46A2697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358AB-02D1-43A4-B0D0-DECF815B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8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66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6600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89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C8E7-0103-4C42-86AB-2ED7B5D60B2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BA17-E1F7-4D50-89A0-1354A8ABA8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268E-326D-4FFF-B028-30307638D77E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财政支出绩效目标申报表填报培训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755640" y="1123920"/>
            <a:ext cx="7776720" cy="4752000"/>
            <a:chOff x="755640" y="1123920"/>
            <a:chExt cx="7776720" cy="4752000"/>
          </a:xfrm>
        </p:grpSpPr>
        <p:grpSp>
          <p:nvGrpSpPr>
            <p:cNvPr id="148" name=""/>
            <p:cNvGrpSpPr/>
            <p:nvPr/>
          </p:nvGrpSpPr>
          <p:grpSpPr>
            <a:xfrm>
              <a:off x="894240" y="1123920"/>
              <a:ext cx="7638120" cy="4690440"/>
              <a:chOff x="894240" y="1123920"/>
              <a:chExt cx="7638120" cy="46904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894240" y="1123920"/>
                <a:ext cx="6459120" cy="2780280"/>
                <a:chOff x="894240" y="1123920"/>
                <a:chExt cx="6459120" cy="278028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522040" y="2242440"/>
                  <a:ext cx="0" cy="28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1" name=""/>
                <p:cNvGrpSpPr/>
                <p:nvPr/>
              </p:nvGrpSpPr>
              <p:grpSpPr>
                <a:xfrm>
                  <a:off x="894240" y="1123920"/>
                  <a:ext cx="6459120" cy="2780280"/>
                  <a:chOff x="894240" y="1123920"/>
                  <a:chExt cx="6459120" cy="27802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>
                    <a:off x="1152360" y="2242440"/>
                    <a:ext cx="0" cy="284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7062120" y="2235240"/>
                    <a:ext cx="0" cy="284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4" name=""/>
                  <p:cNvGrpSpPr/>
                  <p:nvPr/>
                </p:nvGrpSpPr>
                <p:grpSpPr>
                  <a:xfrm>
                    <a:off x="894240" y="1123920"/>
                    <a:ext cx="6459120" cy="2780280"/>
                    <a:chOff x="894240" y="1123920"/>
                    <a:chExt cx="6459120" cy="2780280"/>
                  </a:xfrm>
                </p:grpSpPr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1366200" y="1123920"/>
                      <a:ext cx="5505120" cy="82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遵循“公众福利、经济稳定增长、国家安全、资源保护和有效利用”的既定国策，实施相关项目并进行有效管理，以最低成本提供安全、高效、便捷的交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894240" y="2527200"/>
                      <a:ext cx="536760" cy="1377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全球化链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4122360" y="1937520"/>
                      <a:ext cx="0" cy="579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1157760" y="2237400"/>
                      <a:ext cx="58993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2397960" y="2527200"/>
                      <a:ext cx="536760" cy="1377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更便捷的交通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656440" y="2242440"/>
                      <a:ext cx="0" cy="284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5263560" y="2527200"/>
                      <a:ext cx="536760" cy="1377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环境指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6816600" y="2498400"/>
                      <a:ext cx="536760" cy="1377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卓越的管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885480" y="2527200"/>
                      <a:ext cx="536760" cy="1377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更安全的交通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4" name=""/>
              <p:cNvGrpSpPr/>
              <p:nvPr/>
            </p:nvGrpSpPr>
            <p:grpSpPr>
              <a:xfrm>
                <a:off x="7977240" y="1183680"/>
                <a:ext cx="555120" cy="4630680"/>
                <a:chOff x="7977240" y="1183680"/>
                <a:chExt cx="555120" cy="46306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7977240" y="2688480"/>
                  <a:ext cx="537120" cy="1108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战略目标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977240" y="1183680"/>
                  <a:ext cx="537120" cy="705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使命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995600" y="4706280"/>
                  <a:ext cx="536760" cy="1108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绩效目标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" name=""/>
            <p:cNvGrpSpPr/>
            <p:nvPr/>
          </p:nvGrpSpPr>
          <p:grpSpPr>
            <a:xfrm>
              <a:off x="755640" y="3895200"/>
              <a:ext cx="6822720" cy="1980720"/>
              <a:chOff x="755640" y="3895200"/>
              <a:chExt cx="6822720" cy="1980720"/>
            </a:xfrm>
          </p:grpSpPr>
          <p:sp>
            <p:nvSpPr>
              <p:cNvPr id="169" name=""/>
              <p:cNvSpPr/>
              <p:nvPr/>
            </p:nvSpPr>
            <p:spPr>
              <a:xfrm>
                <a:off x="3672000" y="4956840"/>
                <a:ext cx="971280" cy="91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</a:rPr>
                  <a:t>商业航空运输重大事故率降低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宋体"/>
                  </a:rPr>
                  <a:t>x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755640" y="4654800"/>
                <a:ext cx="6822720" cy="1221120"/>
                <a:chOff x="755640" y="4654800"/>
                <a:chExt cx="6822720" cy="12211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143840" y="4654800"/>
                  <a:ext cx="0" cy="28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2" name=""/>
                <p:cNvGrpSpPr/>
                <p:nvPr/>
              </p:nvGrpSpPr>
              <p:grpSpPr>
                <a:xfrm>
                  <a:off x="755640" y="4659120"/>
                  <a:ext cx="6822720" cy="1216800"/>
                  <a:chOff x="755640" y="4659120"/>
                  <a:chExt cx="6822720" cy="12168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5616360" y="4661640"/>
                    <a:ext cx="0" cy="284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2144160" y="4961160"/>
                    <a:ext cx="972000" cy="91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400" spc="-1" strike="noStrike">
                        <a:solidFill>
                          <a:srgbClr val="000000"/>
                        </a:solidFill>
                        <a:latin typeface="宋体"/>
                      </a:rPr>
                      <a:t>高速公路交通事故死亡率降低到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宋体"/>
                      </a:rPr>
                      <a:t>x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1172160" y="4659120"/>
                    <a:ext cx="5971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2700000" y="4661640"/>
                    <a:ext cx="0" cy="284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6607080" y="4946400"/>
                    <a:ext cx="971280" cy="915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400" spc="-1" strike="noStrike">
                        <a:solidFill>
                          <a:srgbClr val="000000"/>
                        </a:solidFill>
                        <a:latin typeface="宋体"/>
                      </a:rPr>
                      <a:t>市内交通安全事故死亡率降低到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宋体"/>
                      </a:rPr>
                      <a:t>x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5202720" y="4961160"/>
                    <a:ext cx="971280" cy="91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400" spc="-1" strike="noStrike">
                        <a:solidFill>
                          <a:srgbClr val="000000"/>
                        </a:solidFill>
                        <a:latin typeface="宋体"/>
                      </a:rPr>
                      <a:t>铁路运输事故和意外中断率降低到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宋体"/>
                      </a:rPr>
                      <a:t>x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172160" y="4659120"/>
                    <a:ext cx="0" cy="284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755640" y="4961160"/>
                    <a:ext cx="972000" cy="91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400" spc="-1" strike="noStrike">
                        <a:solidFill>
                          <a:srgbClr val="000000"/>
                        </a:solidFill>
                        <a:latin typeface="宋体"/>
                      </a:rPr>
                      <a:t>管道运输总事故数降低到每年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宋体"/>
                      </a:rPr>
                      <a:t>xx</a:t>
                    </a:r>
                    <a:r>
                      <a:rPr b="0" lang="zh-CN" sz="1400" spc="-1" strike="noStrike">
                        <a:solidFill>
                          <a:srgbClr val="000000"/>
                        </a:solidFill>
                        <a:latin typeface="宋体"/>
                      </a:rPr>
                      <a:t>次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1" name=""/>
              <p:cNvSpPr/>
              <p:nvPr/>
            </p:nvSpPr>
            <p:spPr>
              <a:xfrm>
                <a:off x="4088520" y="3895200"/>
                <a:ext cx="0" cy="106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2700360" y="5414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某交通部门目标体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68080" y="259920"/>
            <a:ext cx="83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二）绩效指标</a:t>
            </a:r>
            <a:endParaRPr b="0" lang="en-US" sz="36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55640" y="163980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含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绩效指标是对项目年度绩效目标的细化和量化，是衡量绩效目标实现程度的标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绩效指标框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项目实施绩效目标管理、开展绩效评价的前提和基础。绩效指标框架包括一级指标、二级指标、指标内容、指标值等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700360" y="68580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绩效指标框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84360" y="1413000"/>
          <a:ext cx="7920000" cy="4354560"/>
        </p:xfrm>
        <a:graphic>
          <a:graphicData uri="http://schemas.openxmlformats.org/drawingml/2006/table">
            <a:tbl>
              <a:tblPr/>
              <a:tblGrid>
                <a:gridCol w="1519200"/>
                <a:gridCol w="2133360"/>
                <a:gridCol w="2133720"/>
                <a:gridCol w="2133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级指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二级指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标内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标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产出指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产出数量指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产出质量指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产出时效指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产出成本指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效果指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经济效益指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社会效益指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环境效益指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可持续影响指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服务对象满意度指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pull dir="r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4360" y="1728720"/>
            <a:ext cx="7416720" cy="28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一级指标：包括产出指标、效益指标、服务对象满意度指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二级指标：定量或定性的因素或变量，是用来细化一级指标，衡量成果、反映变化的手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指标内容：是对二级指标的细化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指标值：是对指标内容确定的具体值，其中，可量化的用数值描述，不可量化的以定性描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1015920"/>
            <a:ext cx="39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关概念解释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5086440"/>
            <a:ext cx="8136000" cy="55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填报单位要根据项目的不同特点开发合适的绩效框架，设计个性化的绩效指标以体现项目的特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 fontScale="89000"/>
          </a:bodyPr>
          <a:p>
            <a:pPr marL="3052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某农田水利项目绩效指标框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2560" y="981000"/>
          <a:ext cx="7921800" cy="4203720"/>
        </p:xfrm>
        <a:graphic>
          <a:graphicData uri="http://schemas.openxmlformats.org/drawingml/2006/table">
            <a:tbl>
              <a:tblPr/>
              <a:tblGrid>
                <a:gridCol w="1800360"/>
                <a:gridCol w="1727280"/>
                <a:gridCol w="2004840"/>
                <a:gridCol w="23893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级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二级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标内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标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产出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量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修建引水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质量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坚固耐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达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ISO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标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效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合同期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天完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成本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节俭成本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成本控制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万元，单位成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效果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经济效益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增加粮食产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斤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社会效益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农民增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环境效益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节约水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吨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可持续影响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一定时期内发挥影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服务对象满意度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受益群众满意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5%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以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pull dir="r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336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404"/>
                </a:solidFill>
                <a:latin typeface="隶书"/>
                <a:ea typeface="隶书"/>
              </a:rPr>
              <a:t>（三）项目逻辑模型</a:t>
            </a:r>
            <a:endParaRPr b="0" lang="en-US" sz="36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39640" y="1631520"/>
            <a:ext cx="806472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目逻辑模型包括投入、活动、产出、成效、影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关键要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其背后的逻辑是：对一个项目投入一定的资源，以便其开展必要的活动；至少有一些活动会获得一些产出，比如产品和服务；通过使用这些产出应该会带来某种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611280" y="1484280"/>
          <a:ext cx="7921440" cy="4241880"/>
        </p:xfrm>
        <a:graphic>
          <a:graphicData uri="http://schemas.openxmlformats.org/drawingml/2006/table">
            <a:tbl>
              <a:tblPr/>
              <a:tblGrid>
                <a:gridCol w="1584360"/>
                <a:gridCol w="6337080"/>
              </a:tblGrid>
              <a:tr h="658440">
                <a:tc>
                  <a:txBody>
                    <a:bodyPr lIns="36000" rIns="0" tIns="36000" bIns="360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投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0" tIns="36000" bIns="360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指用于项目实施的各种资源，包括人力、资金、实物、时间和专业技能等资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3960">
                <a:tc>
                  <a:txBody>
                    <a:bodyPr lIns="36000" rIns="0" tIns="36000" bIns="360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0" tIns="36000" bIns="360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指为实现项目目标而调动和使用各种资源的各项行动和工作，活动可以使用动词来表述（开展、建设、协助、交付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3960">
                <a:tc>
                  <a:txBody>
                    <a:bodyPr lIns="36000" rIns="0" tIns="36000" bIns="360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产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0" tIns="36000" bIns="360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指通过实施各项活动而产生的产品和服务，是具体的，可计量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680">
                <a:tc>
                  <a:txBody>
                    <a:bodyPr lIns="36000" rIns="0" tIns="36000" bIns="360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成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0" tIns="36000" bIns="360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指由项目产出而带来的短期或中期的直接效果，成效能够被增加、减少、增强、改善或维持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1840">
                <a:tc>
                  <a:txBody>
                    <a:bodyPr lIns="36000" rIns="0" tIns="36000" bIns="360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影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0" tIns="36000" bIns="360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指由成效累积导致的长期的或全面的变化，类似于战略目标。如：运输效率提高降低了运输成本（成效），从而促进了当地经济的发展（影响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11280" y="728640"/>
            <a:ext cx="4897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项目逻辑模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要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684360" y="1700280"/>
            <a:ext cx="7632720" cy="4033440"/>
            <a:chOff x="684360" y="1700280"/>
            <a:chExt cx="7632720" cy="4033440"/>
          </a:xfrm>
        </p:grpSpPr>
        <p:grpSp>
          <p:nvGrpSpPr>
            <p:cNvPr id="197" name=""/>
            <p:cNvGrpSpPr/>
            <p:nvPr/>
          </p:nvGrpSpPr>
          <p:grpSpPr>
            <a:xfrm>
              <a:off x="684360" y="2703600"/>
              <a:ext cx="7632720" cy="3030120"/>
              <a:chOff x="684360" y="2703600"/>
              <a:chExt cx="7632720" cy="3030120"/>
            </a:xfrm>
          </p:grpSpPr>
          <p:sp>
            <p:nvSpPr>
              <p:cNvPr id="198" name=""/>
              <p:cNvSpPr/>
              <p:nvPr/>
            </p:nvSpPr>
            <p:spPr>
              <a:xfrm>
                <a:off x="795960" y="2703600"/>
                <a:ext cx="1023480" cy="69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</a:rPr>
                  <a:t>投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340000" y="2703600"/>
                <a:ext cx="1023120" cy="69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</a:rPr>
                  <a:t>活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58920" y="2703600"/>
                <a:ext cx="1023480" cy="69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</a:rPr>
                  <a:t>产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514840" y="2703600"/>
                <a:ext cx="1023480" cy="69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</a:rPr>
                  <a:t>成效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147080" y="2703600"/>
                <a:ext cx="1023480" cy="69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</a:rPr>
                  <a:t>影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84360" y="3471480"/>
                <a:ext cx="1315440" cy="185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宋体"/>
                  </a:rPr>
                  <a:t>1.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宋体"/>
                  </a:rPr>
                  <a:t>资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宋体"/>
                  </a:rPr>
                  <a:t>2.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宋体"/>
                  </a:rPr>
                  <a:t>人员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宋体"/>
                  </a:rPr>
                  <a:t>3.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宋体"/>
                  </a:rPr>
                  <a:t>物料供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260440" y="3471480"/>
                <a:ext cx="1315440" cy="185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宋体"/>
                  </a:rPr>
                  <a:t>1.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宋体"/>
                  </a:rPr>
                  <a:t>培训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宋体"/>
                  </a:rPr>
                  <a:t>2.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宋体"/>
                  </a:rPr>
                  <a:t>教育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宋体"/>
                  </a:rPr>
                  <a:t>3.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宋体"/>
                  </a:rPr>
                  <a:t>咨询服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898800" y="3471480"/>
                <a:ext cx="1315440" cy="185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宋体"/>
                  </a:rPr>
                  <a:t>1.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宋体"/>
                  </a:rPr>
                  <a:t>服务时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宋体"/>
                  </a:rPr>
                  <a:t>2.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宋体"/>
                  </a:rPr>
                  <a:t>完成课程的参加者人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474880" y="3471480"/>
                <a:ext cx="1315440" cy="185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宋体"/>
                  </a:rPr>
                  <a:t>1.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宋体"/>
                  </a:rPr>
                  <a:t>技能提升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宋体"/>
                  </a:rPr>
                  <a:t>2.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宋体"/>
                  </a:rPr>
                  <a:t>态度改变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宋体"/>
                  </a:rPr>
                  <a:t>3.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宋体"/>
                  </a:rPr>
                  <a:t>新的就业机会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01640" y="3471480"/>
                <a:ext cx="1315440" cy="226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宋体"/>
                  </a:rPr>
                  <a:t>1.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宋体"/>
                  </a:rPr>
                  <a:t>培训者在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宋体"/>
                  </a:rPr>
                  <a:t>5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宋体"/>
                  </a:rPr>
                  <a:t>年内比那些没有接受培训的人挣得更多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宋体"/>
                  </a:rPr>
                  <a:t>2.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宋体"/>
                  </a:rPr>
                  <a:t>接受培训的人的生活水平高于平均水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2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2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2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2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\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5851440" y="2079720"/>
              <a:ext cx="2045880" cy="635400"/>
              <a:chOff x="5851440" y="2079720"/>
              <a:chExt cx="2045880" cy="63540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5851440" y="2079720"/>
                <a:ext cx="0" cy="63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851440" y="2080080"/>
                <a:ext cx="63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7897320" y="2079720"/>
                <a:ext cx="0" cy="63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7261200" y="2080080"/>
                <a:ext cx="63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6480720" y="1700280"/>
              <a:ext cx="786600" cy="63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效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116000" y="836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某培训项目为例，解释项目逻辑模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404"/>
                </a:solidFill>
                <a:latin typeface="隶书"/>
                <a:ea typeface="隶书"/>
              </a:rPr>
              <a:t>四、绩效目标设定程序</a:t>
            </a:r>
            <a:br>
              <a:rPr sz="3600"/>
            </a:br>
            <a:endParaRPr b="0" lang="en-US" sz="36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403280" y="1918800"/>
            <a:ext cx="61214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一）设计项目逻辑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二）提炼绩效指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三）收集基准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四）确定具体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336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404"/>
                </a:solidFill>
                <a:latin typeface="隶书"/>
                <a:ea typeface="隶书"/>
              </a:rPr>
              <a:t>（一）设计项目逻辑模型</a:t>
            </a:r>
            <a:endParaRPr b="0" lang="en-US" sz="36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755640" y="2205000"/>
            <a:ext cx="30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465120" y="1798560"/>
            <a:ext cx="7635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根据项目内容或部门工作的特点，分析投入哪些资源，通过哪些活动，获得哪些产出，产生哪些效果，在分析的基础上，设计项目逻辑模型，为提炼绩效指标提供基础。下表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培训和运维项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例，说明项目逻辑模型的设计方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b39"/>
                </a:solidFill>
                <a:latin typeface="隶书"/>
                <a:ea typeface="隶书"/>
              </a:rPr>
              <a:t>介 绍 纲 要</a:t>
            </a:r>
            <a:br>
              <a:rPr sz="4800"/>
            </a:br>
            <a:endParaRPr b="0" lang="en-US" sz="48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90560" y="1773000"/>
            <a:ext cx="835344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404"/>
                </a:solidFill>
                <a:latin typeface="隶书"/>
                <a:ea typeface="隶书"/>
              </a:rPr>
              <a:t>一、政策文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404"/>
                </a:solidFill>
                <a:latin typeface="隶书"/>
                <a:ea typeface="隶书"/>
              </a:rPr>
              <a:t>二、预算绩效管理与绩效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404"/>
                </a:solidFill>
                <a:latin typeface="隶书"/>
                <a:ea typeface="隶书"/>
              </a:rPr>
              <a:t>三、基本概念解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404"/>
                </a:solidFill>
                <a:latin typeface="隶书"/>
                <a:ea typeface="隶书"/>
              </a:rPr>
              <a:t>四、绩效目标设定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五、绩效目标申报表填报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84360" y="1341360"/>
            <a:ext cx="820728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835280" y="67644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某医院骨干培养项目逻辑模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55640" y="1268280"/>
          <a:ext cx="7848720" cy="4465800"/>
        </p:xfrm>
        <a:graphic>
          <a:graphicData uri="http://schemas.openxmlformats.org/drawingml/2006/table">
            <a:tbl>
              <a:tblPr/>
              <a:tblGrid>
                <a:gridCol w="720720"/>
                <a:gridCol w="1076400"/>
                <a:gridCol w="6051600"/>
              </a:tblGrid>
              <a:tr h="600120">
                <a:tc>
                  <a:txBody>
                    <a:bodyPr lIns="18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投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资金、时间、人力资源、设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3640">
                <a:tc>
                  <a:txBody>
                    <a:bodyPr lIns="18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对县级医院部分优秀工作人员实施骨干培养计划，通过参观学习，现场教授，实际操作等方式，提升其工作技能和水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rowSpan="3">
                  <a:txBody>
                    <a:bodyPr lIns="18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产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一部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培训时数、参加培训人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部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学会某项先进设备的使用、充实某一方面的专业理论知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三部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获得某种技能、职业资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1560">
                <a:tc>
                  <a:txBody>
                    <a:bodyPr lIns="18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成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提高了工作技能，执业水平，医院服务人群数量的增加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>
                  <a:txBody>
                    <a:bodyPr lIns="18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影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促进医疗服务水平的提升，促进卫生事业发展，促进人民健康水平的提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083040" y="76428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政务信息化建设与运维项目逻辑模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4360" y="1413000"/>
          <a:ext cx="7775280" cy="4392000"/>
        </p:xfrm>
        <a:graphic>
          <a:graphicData uri="http://schemas.openxmlformats.org/drawingml/2006/table">
            <a:tbl>
              <a:tblPr/>
              <a:tblGrid>
                <a:gridCol w="668160"/>
                <a:gridCol w="1020960"/>
                <a:gridCol w="6086160"/>
              </a:tblGrid>
              <a:tr h="61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投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资金、时间、人力资源、设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合信息化系统，加强信息资源共享利用；实施信息安全加固；根据业务需求新建信息系统；对原有系统进行升级改造和运维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9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产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一部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纵向网中心节点网络设备续保、服务器续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部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内网网上办公系统、纵向网应用系统及互联网应用系统日常维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三部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购买了中经专网内网版、中经专网纵网简版中经视频等信息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成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系统稳定性得到提高，故障解决时间得以缩短，工作效率得到提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影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保障了政务信息系统中各应用系统的正常、安全运行，整合了单位已有信息资源，提升了整体信息化应用水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336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404"/>
                </a:solidFill>
                <a:latin typeface="隶书"/>
                <a:ea typeface="隶书"/>
              </a:rPr>
              <a:t>（二）提炼绩效指标</a:t>
            </a:r>
            <a:endParaRPr b="0" lang="en-US" sz="36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8000" y="112356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绩效指标主要包括产出指标和效果指标。通过分析逻辑模型，明确产出内容和取得的成效等，从而提炼产出指标和效果指标，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63640" y="2276640"/>
            <a:ext cx="180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242100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某医院骨干培养项目绩效指标表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826920" y="2924280"/>
          <a:ext cx="7058160" cy="819000"/>
        </p:xfrm>
        <a:graphic>
          <a:graphicData uri="http://schemas.openxmlformats.org/drawingml/2006/table">
            <a:tbl>
              <a:tblPr/>
              <a:tblGrid>
                <a:gridCol w="1390680"/>
                <a:gridCol w="5667480"/>
              </a:tblGrid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产出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培训时数、培训人数、熟练使用某项先进设备的人员比例、高级执业医师所占比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效果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医疗投诉率降低、医疗事故率降低、病患满意度提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1763640" y="422100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政务信息化建设与运维项目绩效指标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826920" y="4724280"/>
          <a:ext cx="7058160" cy="828720"/>
        </p:xfrm>
        <a:graphic>
          <a:graphicData uri="http://schemas.openxmlformats.org/drawingml/2006/table">
            <a:tbl>
              <a:tblPr/>
              <a:tblGrid>
                <a:gridCol w="1368720"/>
                <a:gridCol w="5689440"/>
              </a:tblGrid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产出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各应用系统平均无故障运行时间、各网络不间断运行时间、各类故障解决时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效果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工作效率提升、用户满意度提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pull dir="r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3360" y="269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404"/>
                </a:solidFill>
                <a:latin typeface="隶书"/>
                <a:ea typeface="隶书"/>
              </a:rPr>
              <a:t>（三）收集基准数据</a:t>
            </a:r>
            <a:endParaRPr b="0" lang="en-US" sz="36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8360" y="1771560"/>
            <a:ext cx="820728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基准数据：又称参照值，指过去某一时间节点的数据，如，过去三年的平均值、以前某年度的数值、平均趋势、类似项目的先进水平、行业标准、经验标准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假设通过测算和分析，培训项目和运维项目部分指标过去三年的平均值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835280" y="1052640"/>
            <a:ext cx="58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某医院骨干培养项目部分指标过去三年的平均值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5280" y="3524400"/>
            <a:ext cx="58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政务信息化建设与运维项目部分指标过去三年的平均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4360" y="1773360"/>
          <a:ext cx="8011800" cy="1239840"/>
        </p:xfrm>
        <a:graphic>
          <a:graphicData uri="http://schemas.openxmlformats.org/drawingml/2006/table">
            <a:tbl>
              <a:tblPr/>
              <a:tblGrid>
                <a:gridCol w="3541680"/>
                <a:gridCol w="447012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熟练使用某项先进设备的人员比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级执业医师所占比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684360" y="4221000"/>
          <a:ext cx="7991280" cy="1152720"/>
        </p:xfrm>
        <a:graphic>
          <a:graphicData uri="http://schemas.openxmlformats.org/drawingml/2006/table">
            <a:tbl>
              <a:tblPr/>
              <a:tblGrid>
                <a:gridCol w="3476520"/>
                <a:gridCol w="4514760"/>
              </a:tblGrid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各网络不间断运行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*1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小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各类故障解决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3360" y="297000"/>
            <a:ext cx="85406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404"/>
                </a:solidFill>
                <a:latin typeface="隶书"/>
                <a:ea typeface="隶书"/>
              </a:rPr>
              <a:t>（四）确定具体目标</a:t>
            </a:r>
            <a:endParaRPr b="0" lang="en-US" sz="36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341000"/>
            <a:ext cx="813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完成收集基准数据工作的基础上，预算单位需要结合本次的投入与活动，确定产出、效益和服务对象满意度的具体目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0920" y="2492280"/>
            <a:ext cx="547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某医院骨干培养项目绩效框架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755640" y="2924280"/>
          <a:ext cx="7920000" cy="2838240"/>
        </p:xfrm>
        <a:graphic>
          <a:graphicData uri="http://schemas.openxmlformats.org/drawingml/2006/table">
            <a:tbl>
              <a:tblPr/>
              <a:tblGrid>
                <a:gridCol w="1846440"/>
                <a:gridCol w="1736640"/>
                <a:gridCol w="2871720"/>
                <a:gridCol w="1465200"/>
              </a:tblGrid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一级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二级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指标内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指标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6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产出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产出数量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熟练使用某项先进设备的人员比例显著提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高级执业医师所占比例提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效果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社会效益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医疗投诉率降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百分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服务对象满意度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病患满意度提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百分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755640" y="1917720"/>
          <a:ext cx="7704000" cy="3527280"/>
        </p:xfrm>
        <a:graphic>
          <a:graphicData uri="http://schemas.openxmlformats.org/drawingml/2006/table">
            <a:tbl>
              <a:tblPr/>
              <a:tblGrid>
                <a:gridCol w="2087640"/>
                <a:gridCol w="1800000"/>
                <a:gridCol w="2449800"/>
                <a:gridCol w="1366560"/>
              </a:tblGrid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一级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二级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指标内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指标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3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产出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产出数量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各网络不间断运行时间延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长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7*2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小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各类故障解决时间缩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控制在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小时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0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效果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社会效益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工作效率提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百分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服务对象满意度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用户满意度提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百分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1547640" y="1197000"/>
            <a:ext cx="54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政务信息化建设与运维项目绩效框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404"/>
                </a:solidFill>
                <a:latin typeface="隶书"/>
                <a:ea typeface="隶书"/>
              </a:rPr>
              <a:t>五、绩效目标申报表填报问题</a:t>
            </a:r>
            <a:endParaRPr b="0" lang="en-US" sz="36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6560" y="1699920"/>
            <a:ext cx="7704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绩效目标未明确项目具体的产出和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绩效指标内容填写不明确、指标量化程度不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项目支出绩效目标申报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图片 2" descr=""/>
          <p:cNvPicPr/>
          <p:nvPr/>
        </p:nvPicPr>
        <p:blipFill>
          <a:blip r:embed="rId2"/>
          <a:stretch/>
        </p:blipFill>
        <p:spPr>
          <a:xfrm>
            <a:off x="1927080" y="2276640"/>
            <a:ext cx="552456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404"/>
                </a:solidFill>
                <a:latin typeface="隶书"/>
                <a:ea typeface="隶书"/>
              </a:rPr>
              <a:t>一、政策文件</a:t>
            </a:r>
            <a:endParaRPr b="0" lang="en-US" sz="40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北京市人民政府办公厅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关于推进本市预算绩效管理的意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政办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[2011]5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北京市财政局关于印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北京市预算绩效管理办法（试行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通知（京财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[2011]24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北京市财政局关于印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北京市预算绩效管理问责办法（试行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通知（京财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[2011]24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北京市财政局关于印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北京市财政支出绩效评价管理暂行办法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通知（京财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[2012]27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404"/>
                </a:solidFill>
                <a:latin typeface="隶书"/>
                <a:ea typeface="隶书"/>
              </a:rPr>
              <a:t>二、预算绩效管理与绩效目标</a:t>
            </a:r>
            <a:br>
              <a:rPr sz="3600"/>
            </a:br>
            <a:endParaRPr b="0" lang="en-US" sz="36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1268280"/>
            <a:ext cx="73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一）预算绩效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预算绩效管理是一种以支出结果为导向的预算管理模式，它要求将绩效理念融入预算编制、执行、监督的全过程，逐步建立“预算编制有目标、预算执行有监控、预算完成有评价、评价结果有反馈、反馈结果有应用”的预算绩效管理机制，以不断改进政府部门服务水平和质量，有效提高财政资金的使用效益。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二）绩效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绩效目标是项目计划在一定期限内达到的产出和效果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404"/>
                </a:solidFill>
                <a:latin typeface="隶书"/>
                <a:ea typeface="隶书"/>
              </a:rPr>
              <a:t>二、预算绩效管理与绩效目标</a:t>
            </a:r>
            <a:endParaRPr b="0" lang="en-US" sz="4000" spc="-1" strike="noStrike">
              <a:solidFill>
                <a:srgbClr val="e88a00"/>
              </a:solidFill>
              <a:latin typeface="Arial"/>
            </a:endParaRPr>
          </a:p>
        </p:txBody>
      </p:sp>
      <p:pic>
        <p:nvPicPr>
          <p:cNvPr id="96" name="图示 6" descr=""/>
          <p:cNvPicPr/>
          <p:nvPr/>
        </p:nvPicPr>
        <p:blipFill>
          <a:blip r:embed="rId2"/>
          <a:stretch/>
        </p:blipFill>
        <p:spPr>
          <a:xfrm>
            <a:off x="896760" y="1981080"/>
            <a:ext cx="735516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404"/>
                </a:solidFill>
                <a:latin typeface="隶书"/>
                <a:ea typeface="隶书"/>
              </a:rPr>
              <a:t>二、预算绩效管理与绩效目标</a:t>
            </a:r>
            <a:endParaRPr b="0" lang="en-US" sz="4000" spc="-1" strike="noStrike">
              <a:solidFill>
                <a:srgbClr val="e88a00"/>
              </a:solidFill>
              <a:latin typeface="Arial"/>
            </a:endParaRPr>
          </a:p>
        </p:txBody>
      </p:sp>
      <p:pic>
        <p:nvPicPr>
          <p:cNvPr id="98" name="图示 6" descr=""/>
          <p:cNvPicPr/>
          <p:nvPr/>
        </p:nvPicPr>
        <p:blipFill>
          <a:blip r:embed="rId2"/>
          <a:stretch/>
        </p:blipFill>
        <p:spPr>
          <a:xfrm>
            <a:off x="731880" y="1981080"/>
            <a:ext cx="768492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404"/>
                </a:solidFill>
                <a:latin typeface="隶书"/>
                <a:ea typeface="隶书"/>
              </a:rPr>
              <a:t>三、基本概念解读</a:t>
            </a:r>
            <a:br>
              <a:rPr sz="3600"/>
            </a:br>
            <a:endParaRPr b="0" lang="en-US" sz="36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57280" y="1980720"/>
            <a:ext cx="6354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一）目标的层级体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二）绩效指标框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三）项目逻辑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69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一）目标的层级体系</a:t>
            </a:r>
            <a:endParaRPr b="0" lang="en-US" sz="3600" spc="-1" strike="noStrike">
              <a:solidFill>
                <a:srgbClr val="e88a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68360" y="1989000"/>
            <a:ext cx="8064360" cy="3816360"/>
            <a:chOff x="468360" y="1989000"/>
            <a:chExt cx="8064360" cy="3816360"/>
          </a:xfrm>
        </p:grpSpPr>
        <p:sp>
          <p:nvSpPr>
            <p:cNvPr id="103" name=""/>
            <p:cNvSpPr/>
            <p:nvPr/>
          </p:nvSpPr>
          <p:spPr>
            <a:xfrm>
              <a:off x="3518640" y="4267080"/>
              <a:ext cx="20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68360" y="1989000"/>
              <a:ext cx="8064360" cy="3816360"/>
              <a:chOff x="468360" y="1989000"/>
              <a:chExt cx="8064360" cy="3816360"/>
            </a:xfrm>
          </p:grpSpPr>
          <p:sp>
            <p:nvSpPr>
              <p:cNvPr id="105" name=""/>
              <p:cNvSpPr/>
              <p:nvPr/>
            </p:nvSpPr>
            <p:spPr>
              <a:xfrm>
                <a:off x="1739880" y="3013560"/>
                <a:ext cx="0" cy="27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778760" y="4094640"/>
                <a:ext cx="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468360" y="1989000"/>
                <a:ext cx="8064360" cy="3816360"/>
                <a:chOff x="468360" y="1989000"/>
                <a:chExt cx="8064360" cy="3816360"/>
              </a:xfrm>
            </p:grpSpPr>
            <p:grpSp>
              <p:nvGrpSpPr>
                <p:cNvPr id="108" name=""/>
                <p:cNvGrpSpPr/>
                <p:nvPr/>
              </p:nvGrpSpPr>
              <p:grpSpPr>
                <a:xfrm>
                  <a:off x="1182240" y="1989000"/>
                  <a:ext cx="6638760" cy="2118240"/>
                  <a:chOff x="1182240" y="1989000"/>
                  <a:chExt cx="6638760" cy="211824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3445560" y="1989000"/>
                    <a:ext cx="1926720" cy="771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333333"/>
                        </a:solidFill>
                        <a:latin typeface="宋体"/>
                      </a:rPr>
                      <a:t>使  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4412880" y="2749680"/>
                    <a:ext cx="0" cy="52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1741680" y="3013560"/>
                    <a:ext cx="5528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3835440" y="3223440"/>
                    <a:ext cx="1180080" cy="883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6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333333"/>
                        </a:solidFill>
                        <a:latin typeface="宋体"/>
                      </a:rPr>
                      <a:t>战略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6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333333"/>
                        </a:solidFill>
                        <a:latin typeface="宋体"/>
                      </a:rPr>
                      <a:t>目标</a:t>
                    </a:r>
                    <a:r>
                      <a:rPr b="1" lang="zh-CN" sz="1600" spc="-1" strike="noStrike">
                        <a:solidFill>
                          <a:srgbClr val="333333"/>
                        </a:solidFill>
                        <a:latin typeface="楷体_GB2312"/>
                        <a:ea typeface="楷体_GB2312"/>
                      </a:rPr>
                      <a:t>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263000" y="3007800"/>
                    <a:ext cx="0" cy="27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1182240" y="3223440"/>
                    <a:ext cx="1180080" cy="883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6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333333"/>
                        </a:solidFill>
                        <a:latin typeface="宋体"/>
                      </a:rPr>
                      <a:t>战略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6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333333"/>
                        </a:solidFill>
                        <a:latin typeface="宋体"/>
                      </a:rPr>
                      <a:t>目标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6641280" y="3223440"/>
                    <a:ext cx="1179720" cy="883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6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333333"/>
                        </a:solidFill>
                        <a:latin typeface="宋体"/>
                      </a:rPr>
                      <a:t>战略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6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333333"/>
                        </a:solidFill>
                        <a:latin typeface="宋体"/>
                      </a:rPr>
                      <a:t>目标</a:t>
                    </a:r>
                    <a:r>
                      <a:rPr b="1" lang="zh-CN" sz="1600" spc="-1" strike="noStrike">
                        <a:solidFill>
                          <a:srgbClr val="333333"/>
                        </a:solidFill>
                        <a:latin typeface="楷体_GB2312"/>
                        <a:ea typeface="楷体_GB2312"/>
                      </a:rPr>
                      <a:t>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814320" y="4267080"/>
                  <a:ext cx="202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08200" y="4268160"/>
                  <a:ext cx="0" cy="17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8360" y="4442040"/>
                  <a:ext cx="610200" cy="1363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2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333333"/>
                      </a:solidFill>
                      <a:latin typeface="宋体"/>
                    </a:rPr>
                    <a:t>绩效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2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333333"/>
                      </a:solidFill>
                      <a:latin typeface="宋体"/>
                    </a:rPr>
                    <a:t>目标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486440" y="4268160"/>
                  <a:ext cx="0" cy="17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146240" y="4442040"/>
                  <a:ext cx="611640" cy="1363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2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333333"/>
                      </a:solidFill>
                      <a:latin typeface="宋体"/>
                    </a:rPr>
                    <a:t>绩效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2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333333"/>
                      </a:solidFill>
                      <a:latin typeface="宋体"/>
                    </a:rPr>
                    <a:t>目标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165760" y="4268160"/>
                  <a:ext cx="0" cy="17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826640" y="4442040"/>
                  <a:ext cx="610200" cy="1363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2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333333"/>
                      </a:solidFill>
                      <a:latin typeface="宋体"/>
                    </a:rPr>
                    <a:t>绩效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2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333333"/>
                      </a:solidFill>
                      <a:latin typeface="宋体"/>
                    </a:rPr>
                    <a:t>目标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842200" y="4268160"/>
                  <a:ext cx="0" cy="17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503080" y="4442040"/>
                  <a:ext cx="610200" cy="1363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2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333333"/>
                      </a:solidFill>
                      <a:latin typeface="宋体"/>
                    </a:rPr>
                    <a:t>绩效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2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333333"/>
                      </a:solidFill>
                      <a:latin typeface="宋体"/>
                    </a:rPr>
                    <a:t>目标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483800" y="4094640"/>
                  <a:ext cx="0" cy="17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512520" y="4268160"/>
                  <a:ext cx="0" cy="17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172320" y="4442040"/>
                  <a:ext cx="610200" cy="1363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2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333333"/>
                      </a:solidFill>
                      <a:latin typeface="宋体"/>
                    </a:rPr>
                    <a:t>绩效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2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333333"/>
                      </a:solidFill>
                      <a:latin typeface="宋体"/>
                    </a:rPr>
                    <a:t>目标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190760" y="4268160"/>
                  <a:ext cx="0" cy="17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50560" y="4442040"/>
                  <a:ext cx="611280" cy="1363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2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333333"/>
                      </a:solidFill>
                      <a:latin typeface="宋体"/>
                    </a:rPr>
                    <a:t>绩效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2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333333"/>
                      </a:solidFill>
                      <a:latin typeface="宋体"/>
                    </a:rPr>
                    <a:t>目标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870080" y="4268160"/>
                  <a:ext cx="0" cy="17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530960" y="4442040"/>
                  <a:ext cx="610200" cy="1363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2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333333"/>
                      </a:solidFill>
                      <a:latin typeface="宋体"/>
                    </a:rPr>
                    <a:t>绩效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2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333333"/>
                      </a:solidFill>
                      <a:latin typeface="宋体"/>
                    </a:rPr>
                    <a:t>目标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546520" y="4268160"/>
                  <a:ext cx="0" cy="17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207040" y="4442040"/>
                  <a:ext cx="610200" cy="1363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2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333333"/>
                      </a:solidFill>
                      <a:latin typeface="宋体"/>
                    </a:rPr>
                    <a:t>绩效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2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333333"/>
                      </a:solidFill>
                      <a:latin typeface="宋体"/>
                    </a:rPr>
                    <a:t>目标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199280" y="4094640"/>
                  <a:ext cx="0" cy="17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233400" y="4267080"/>
                  <a:ext cx="202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227640" y="4268160"/>
                  <a:ext cx="0" cy="17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887440" y="4442040"/>
                  <a:ext cx="610200" cy="1363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2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333333"/>
                      </a:solidFill>
                      <a:latin typeface="宋体"/>
                    </a:rPr>
                    <a:t>绩效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2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333333"/>
                      </a:solidFill>
                      <a:latin typeface="宋体"/>
                    </a:rPr>
                    <a:t>目标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905880" y="4268160"/>
                  <a:ext cx="0" cy="17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565680" y="4442040"/>
                  <a:ext cx="611640" cy="1363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2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333333"/>
                      </a:solidFill>
                      <a:latin typeface="宋体"/>
                    </a:rPr>
                    <a:t>绩效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2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333333"/>
                      </a:solidFill>
                      <a:latin typeface="宋体"/>
                    </a:rPr>
                    <a:t>目标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85200" y="4268160"/>
                  <a:ext cx="0" cy="17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246080" y="4442040"/>
                  <a:ext cx="610200" cy="1363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2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333333"/>
                      </a:solidFill>
                      <a:latin typeface="宋体"/>
                    </a:rPr>
                    <a:t>绩效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2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333333"/>
                      </a:solidFill>
                      <a:latin typeface="宋体"/>
                    </a:rPr>
                    <a:t>目标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261280" y="4268160"/>
                  <a:ext cx="0" cy="17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922520" y="4442040"/>
                  <a:ext cx="610200" cy="1363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2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333333"/>
                      </a:solidFill>
                      <a:latin typeface="宋体"/>
                    </a:rPr>
                    <a:t>绩效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2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333333"/>
                      </a:solidFill>
                      <a:latin typeface="宋体"/>
                    </a:rPr>
                    <a:t>目标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"/>
          <p:cNvSpPr/>
          <p:nvPr/>
        </p:nvSpPr>
        <p:spPr>
          <a:xfrm>
            <a:off x="574560" y="1341360"/>
            <a:ext cx="83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标一般包括使命、战略目标和绩效目标三个层次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下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6560" y="1268280"/>
            <a:ext cx="8066160" cy="37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命：接近于“天职”，亦可理解为“追求一种活动或实现一种职责的内心召唤”，通常指组织肩负的历史责任或力求实现的终极目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战略目标：组织的职能或长远目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绩效目标：具体项目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计划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产出和效果。（长期、年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绩效目标是最为具体的目标，它是战略目标的细化，也是部门或项目实现战略目标及最终使命等高层次目标的基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某交通部门为例，解释目标体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836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概念解释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02:53:02Z</dcterms:created>
  <dc:creator>USER</dc:creator>
  <dc:description/>
  <dc:language>en-US</dc:language>
  <cp:lastModifiedBy>User</cp:lastModifiedBy>
  <cp:lastPrinted>2011-07-19T01:40:32Z</cp:lastPrinted>
  <dcterms:modified xsi:type="dcterms:W3CDTF">2012-10-09T23:01:31Z</dcterms:modified>
  <cp:revision>3394</cp:revision>
  <dc:subject/>
  <dc:title>2003年中央财政教科文专项资金绩效考评试点</dc:title>
</cp:coreProperties>
</file>